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BC9-E3FD-49F9-B6AD-BF069B32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23C-BB42-4054-86E0-F45380D9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703-4BBA-4693-B5C4-9BDD4FB3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B70-3172-4E02-95EF-9E6E3D2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899-F252-4DEF-BEEE-6CF0472E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4400-A602-46FF-9553-37AD2AE6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6D33-FDA4-4D10-A6E5-132E8B52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15D2-1332-46D9-87C9-CEC0DE15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516C-023C-4637-B7BA-6315D750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C3A1-D176-4C2A-9A25-44EFDD3C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89FB-F319-4114-B39A-358839FB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D55-10AD-42F8-86EF-A3E48FA5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DB84-27C4-42F4-A4A7-67254E73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8DE7-ECB1-42C5-80F6-5918986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8C3E-33BC-469C-9C88-205DC751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C51-8E02-4174-8668-75BC941E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101-9945-4AD4-8125-42677821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7EF4-804D-467B-A703-6CE1B15D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595A-E87B-4BB3-B55B-89F8D3B6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60F3B-0A1D-43C4-967A-715FE07C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28CE-DCB1-4471-82E4-2BAD5430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54C9-FA01-4461-9832-170D0677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448-FA02-449A-9DC1-5BE32309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8FB5-50A0-419E-8FCF-7ACF512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2E5F-4B83-4D61-B7B2-CD718A07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810C-E4A1-4919-8D9E-801756F0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A221-F068-47D5-AF84-6FA209D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8577-41E3-4BA8-AA89-637B260C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8FA9-0E75-439F-AA67-66A0AAB5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2BEF-63F1-4947-86C2-6DBFE713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9EC4D-F6AB-4352-95E1-7EB134A2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BF00D-9C7D-4EEF-90E3-634F73A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8799F-8021-4CFF-8625-4256BFA9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87E-C79A-4F4A-9DFF-39D5B17F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57A737-8776-478F-B208-075FDD85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98F13-3A4F-45CB-B7E2-962EAE5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F230A-FD62-46BF-B774-124D9F3E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C6981-1814-4BB1-95A5-96A0BF4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287FE-0730-4C26-AB9E-6AA92D8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4CA21-186E-4D96-A144-21AC1F6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A8E8A-E1D5-4254-AB3C-B716A21C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68A2B-F073-4ECB-BE50-5C01E3B0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17DEC-CD4F-4987-9122-996C29DC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BB2D-DB31-449F-9FCA-202B9824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C19-18A1-45FB-AE06-6EE09D82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BD45-83CD-49A3-8D22-6844A0D3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5C3DB-24EF-433E-862A-6F55FE01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77DA9-B680-4758-8124-AFDCE80E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05CC-9105-4845-8336-3BC4EA19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0F6C-99AE-4A46-8EBB-60EB6BC5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2C739-A1BE-47D9-9B34-CCD99819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494A9-443C-4C9D-AC09-E65ABE2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52423-A7B7-4DB4-AFA1-00E1B3E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CD411-7D00-4B6F-A5FC-CEA3EB46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3A5B-524A-4E6C-B8CD-F6639B33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B5A-CF3B-461B-8FB4-546FF4A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24448-BA82-47DD-8D3F-D071EF08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122B4-5B2B-43EE-BB07-C5FA0035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DDBF5-6FD3-4268-999A-2BA6BFF8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F34A5-8581-41CF-A6C3-F07FA88D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6A660-340C-481D-A280-B0616E78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A3BD-B5A6-4726-9203-5E046A95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22857-65C2-46BE-89C3-CDBB0796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19CF-CBCC-4C9B-A241-9F055708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32D90-ACB3-4B53-AA0C-425C3CA7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F3195-2860-4328-88E4-9A16144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9D1-A81F-4DFA-8EC2-4E64AF0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D0E8-C8A5-4567-8F4B-69E3AC0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7D6D-25A3-4812-8082-D2F870D2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11DC-BD9B-42FD-ADA8-5CAB7C03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E98C-5258-4D50-8BCD-80BC4E5D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7368C-7500-449E-B20C-9E59EFBF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817D-199B-4D48-8977-EC571D58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080D-FA3A-4CF6-B63E-4126D51F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0EF10-8F1F-484B-A1EE-9F4358D9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961A7-70EC-4FE8-BA4D-4A11CA8F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F552D-5850-4B0C-A833-CB1C4B7C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6A9-7F8C-48C7-B4CF-4BC6020B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5F389-E118-4598-9433-5349014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7827B-3165-4BA4-A91E-3B3818E5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7F8B0-5D28-4209-95FC-65141634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97FD-CFA0-4885-969F-71C84584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04401-827F-4786-A0C4-B9521037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8E2-8738-447B-8F57-F88B8A2F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982-037E-40CA-85DF-CB0DBD382C7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CCFD-141D-49A3-B685-4EABD30F4C6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D7F-8BBE-4A1A-B7D9-71261F299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8BD8-8CBC-4AA0-A1B0-F9A5EBF0FF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9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1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4241-A702-44C5-922A-4D7CF230A6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5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E7E-632A-4C1B-9585-783A74E933B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B716-1938-4CC4-8AC5-6C8D480FC41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228600" y="304920"/>
            <a:ext cx="53341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cient Egyptian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cience 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Medicine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4952880"/>
            <a:ext cx="293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By: Emily Ehrlich,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ara Baran, 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Gabbi Stobb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 top of the Ancient Egyptians’ developments in writing, they made advances in fields of astronomy, mathematics, an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mong citizens of the ancient world, Egypt was known as a land of great and highly valued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empus Sans ITC"/>
              </a:rPr>
              <a:t>Keeping Track of Ti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nce the Egyptians were agricultural people, they had to be capable of predicting when the Nile River would 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, scientists who study stars and other objects in the sky, noticed that the Nile began to rise rapidly at about the same time that they were able to see Si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rius, otherwise known as the dog star, could be seen in the sky shortly before sunr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 worked out the approximate time between the appearances of Siriu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They found that it came to approximately three hundred sixty-five days, so it became the length of their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urlz MT"/>
              </a:rPr>
              <a:t>Mathematic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sed basic mathematics in finding solutions to conflicts they faced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y could add, subtract, multiply, and di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tilized simple fraction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Math helped them measure stone in order for it to be cut to the proper size to build pyram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Geometry was used to measure area so the Egyptians could figure out the quantity of taxes for a plot of land.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Medicine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Religion and medicine went hand in hand in ancient Egyp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Doctors were specially trained priests that used religious practices and their knowledge of diseases to attempt to heal the il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upposedly, because of their work on  mummies, the ancient Egyptians knew a great deal of information about the bod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By studying the human body, they learned how to give surge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The set broken bones, and treated many slight injuri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2000" fill="hold"/>
                                        <p:tgtEl>
                                          <p:spTgt spid="7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3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Medicine (continued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understood the concept of herb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erbalism is the practice of composing medicines from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natural remedies were used to help ease common, everyday sicknesses such as headaches and stomacha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t home, mothers prepared their own remedies, or cures, to reduce their children’s fe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wrote a lot of their medical knowledge down on papyrus, which the ancient Greeks and Romans used centuries later. 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8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7696080" y="5105520"/>
            <a:ext cx="1148040" cy="1600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54160" cy="18684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228600" y="5181480"/>
            <a:ext cx="1924200" cy="15368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2209680"/>
            <a:ext cx="8686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We Hope You Enjoyed Ou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Presentation And Learned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A Lot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5"/>
          <a:stretch/>
        </p:blipFill>
        <p:spPr>
          <a:xfrm>
            <a:off x="8229600" y="6477120"/>
            <a:ext cx="217440" cy="3808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6"/>
          <a:stretch/>
        </p:blipFill>
        <p:spPr>
          <a:xfrm>
            <a:off x="7772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91" dur="1230" fill="hold"/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92" dur="123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94" dur="123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9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4" dur="9614" fill="hold"/>
                                        <p:tgtEl>
                                          <p:spTgt spid="7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9" dur="1996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7:56:51Z</dcterms:created>
  <dc:creator>William Ehrlich</dc:creator>
  <dc:description/>
  <dc:language>en-US</dc:language>
  <cp:lastModifiedBy>Default</cp:lastModifiedBy>
  <dcterms:modified xsi:type="dcterms:W3CDTF">2009-01-14T17:53:35Z</dcterms:modified>
  <cp:revision>16</cp:revision>
  <dc:subject/>
  <dc:title>Slide 1</dc:title>
</cp:coreProperties>
</file>